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3DD-B4B3-4D23-AB96-9A63DD5A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8C5-BAF1-4C87-B477-C5742EAC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FB70-B608-440C-A635-436876D7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89B-BE4C-4391-99EB-83C76A1F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E18-BAC7-4986-B1B4-90AA5844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5E8-CBD8-4625-9171-FDCA23D3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ABC-DC36-400F-A5B4-5AE45029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026-B766-49B4-AE5F-6C28C22E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776-DC76-478C-9AAF-8D9E8C26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39D-9303-4777-9A4F-D9C92E72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BB3-58A3-49DA-9C94-62CA3113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3B3-EDC6-42F4-84BB-2E973B49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6852-28E8-49F3-A040-BF1D3E2591E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Earthquak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ain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along faults, which are large cracks in the earth's cru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se are associated with the larger plate boundaries, along which the largest earthquakes usually occ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caused by the sudden jerking movements of the fault, either laterally or vertically, and are almost impossible to predi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Richter sca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s the magnitude of an earthquake using an instrument called a seismograph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Richter scale is logarithmic, meaning that an earthquake measuring 7 is 10 times more powerful than one measuring 6, and 100 times more powerful than one measuring 5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ercalli sca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s the damage caused by an earthquak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rates each quake from I to XII, depending on how much damage was done, and is dependent not only on the magnitude of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dep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f the earthquak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ow They Hap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int at which an earthquake actually begins, deep below the earth's surface is called the foc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focus is deep then the effects of the earthquake may be less as the shockwaves have more rock to move throug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viously this also depends on what type of rock it 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int directly above the focus, on the earth's surface, is called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cent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ffects of the earthquake are usually worst here, and then radiate out from this sp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mona.uwi.edu/earthquake/images/epicentre.gif"/>
          <p:cNvPicPr/>
          <p:nvPr/>
        </p:nvPicPr>
        <p:blipFill>
          <a:blip r:embed="rId1"/>
          <a:stretch/>
        </p:blipFill>
        <p:spPr>
          <a:xfrm>
            <a:off x="343080" y="692280"/>
            <a:ext cx="8453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53:20Z</dcterms:created>
  <dc:creator>Dell_02</dc:creator>
  <dc:description/>
  <dc:language>en-US</dc:language>
  <cp:lastModifiedBy>Dell_02</cp:lastModifiedBy>
  <dcterms:modified xsi:type="dcterms:W3CDTF">2011-01-26T13:58:14Z</dcterms:modified>
  <cp:revision>1</cp:revision>
  <dc:subject/>
  <dc:title>Earthquakes</dc:title>
</cp:coreProperties>
</file>